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4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3.png" ContentType="image/png"/>
  <Override PartName="/ppt/media/image7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61FD2-FAB9-46CE-A3D9-9D71B4028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D5747-EF77-4ACD-8FCE-DD349EB10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2373E-15FE-44DC-A843-6A0D9D09D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163FB-4C38-44B5-B197-4A86DC036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702CA-F8BE-41F6-930D-12E499573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96141-4E03-4F73-AB56-716D202CF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50AB2-3EFD-4ACF-AAA4-D93F5F571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731D9-0CCA-4F90-933C-EC76B28DC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E433A-E6E1-4E65-8467-E469921C5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27EA3-6D0C-44DC-BC69-C227067EA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F6880-7531-4C25-9544-E7942EC83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5806D-2C44-438E-8E40-EA44E5113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983CD-8089-47E2-9A97-931D71F8AB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REATIVE WRIT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pt. 2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Arial"/>
              </a:rPr>
              <a:t>Use real or invented names to bring places al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393876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mes help to make your setting more real and more believab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 boy walked down a street’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ws us nothing, bu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‘Lugs O’Neill limped down Butcher’s Row’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rts to catch our imagin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6" descr=""/>
          <p:cNvPicPr/>
          <p:nvPr/>
        </p:nvPicPr>
        <p:blipFill>
          <a:blip r:embed="rId1"/>
          <a:stretch/>
        </p:blipFill>
        <p:spPr>
          <a:xfrm>
            <a:off x="3654360" y="2119320"/>
            <a:ext cx="1835280" cy="114624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0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8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8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8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8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Arial"/>
              </a:rPr>
              <a:t>Once you have built the setting you can bring in the characters. </a:t>
            </a:r>
            <a:r>
              <a:rPr b="0" i="1" lang="en-US" sz="4000" spc="-1" strike="noStrike">
                <a:solidFill>
                  <a:srgbClr val="ffff66"/>
                </a:solidFill>
                <a:latin typeface="Arial"/>
              </a:rPr>
              <a:t>Who is there and why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66"/>
                </a:solidFill>
                <a:latin typeface="Arial"/>
              </a:rPr>
              <a:t>Have fun creating your story setting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6" descr=""/>
          <p:cNvPicPr/>
          <p:nvPr/>
        </p:nvPicPr>
        <p:blipFill>
          <a:blip r:embed="rId1"/>
          <a:stretch/>
        </p:blipFill>
        <p:spPr>
          <a:xfrm>
            <a:off x="7236000" y="3860640"/>
            <a:ext cx="1538280" cy="256068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nodeType="clickEffect" fill="hold">
                      <p:stCondLst>
                        <p:cond delay="0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nodeType="afterEffect" fill="hold">
                            <p:stCondLst>
                              <p:cond delay="2050"/>
                            </p:stCondLst>
                            <p:childTnLst>
                              <p:par>
                                <p:cTn id="269" nodeType="afterEffect" fill="hold" presetClass="emph" presetID="8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Rot by="21600000">
                                      <p:cBhvr>
                                        <p:cTn id="270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 think about in your partner’s paper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The writing led me to have some feelings for the charac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 The setting was clear and consistent with the charact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 There was a clear confli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riting Warm-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agine you are walking along a country road on a bright, warm, summer day. Continue the story from there. 1 paragrap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800" spc="-1" strike="noStrike">
                <a:solidFill>
                  <a:srgbClr val="000000"/>
                </a:solidFill>
                <a:latin typeface="Boulder"/>
              </a:rPr>
              <a:t>Story Settings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403280" y="3573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ow to improve your writing!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7" descr=""/>
          <p:cNvPicPr/>
          <p:nvPr/>
        </p:nvPicPr>
        <p:blipFill>
          <a:blip r:embed="rId1"/>
          <a:stretch/>
        </p:blipFill>
        <p:spPr>
          <a:xfrm>
            <a:off x="539640" y="4508640"/>
            <a:ext cx="1555920" cy="21114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9" descr=""/>
          <p:cNvPicPr/>
          <p:nvPr/>
        </p:nvPicPr>
        <p:blipFill>
          <a:blip r:embed="rId2"/>
          <a:stretch/>
        </p:blipFill>
        <p:spPr>
          <a:xfrm>
            <a:off x="3059280" y="4797360"/>
            <a:ext cx="1755720" cy="15573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1" descr=""/>
          <p:cNvPicPr/>
          <p:nvPr/>
        </p:nvPicPr>
        <p:blipFill>
          <a:blip r:embed="rId3"/>
          <a:stretch/>
        </p:blipFill>
        <p:spPr>
          <a:xfrm>
            <a:off x="6084720" y="4508640"/>
            <a:ext cx="2737080" cy="20001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5" descr=""/>
          <p:cNvPicPr/>
          <p:nvPr/>
        </p:nvPicPr>
        <p:blipFill>
          <a:blip r:embed="rId4"/>
          <a:stretch/>
        </p:blipFill>
        <p:spPr>
          <a:xfrm>
            <a:off x="7236000" y="260280"/>
            <a:ext cx="1423800" cy="20163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You can start your story by thinking about the setting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SmartArt Placeholder 3078"/>
          <p:cNvGrpSpPr/>
          <p:nvPr/>
        </p:nvGrpSpPr>
        <p:grpSpPr>
          <a:xfrm>
            <a:off x="1174320" y="2540160"/>
            <a:ext cx="6723360" cy="2403360"/>
            <a:chOff x="1174320" y="2540160"/>
            <a:chExt cx="6723360" cy="2403360"/>
          </a:xfrm>
        </p:grpSpPr>
        <p:cxnSp>
          <p:nvCxnSpPr>
            <p:cNvPr id="54" name="_s1028"/>
            <p:cNvCxnSpPr>
              <a:stCxn id="55" idx="0"/>
              <a:endCxn id="56" idx="2"/>
            </p:cNvCxnSpPr>
            <p:nvPr/>
          </p:nvCxnSpPr>
          <p:spPr>
            <a:xfrm flipV="1" rot="16200000">
              <a:off x="5605200" y="2776320"/>
              <a:ext cx="197640" cy="23392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7" name="_s1029"/>
            <p:cNvCxnSpPr>
              <a:stCxn id="58" idx="0"/>
              <a:endCxn id="56" idx="2"/>
            </p:cNvCxnSpPr>
            <p:nvPr/>
          </p:nvCxnSpPr>
          <p:spPr>
            <a:xfrm flipV="1" rot="16200000">
              <a:off x="4436640" y="3944880"/>
              <a:ext cx="197640" cy="252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9" name="_s1030"/>
            <p:cNvCxnSpPr>
              <a:stCxn id="60" idx="0"/>
              <a:endCxn id="56" idx="2"/>
            </p:cNvCxnSpPr>
            <p:nvPr/>
          </p:nvCxnSpPr>
          <p:spPr>
            <a:xfrm flipH="1" flipV="1" rot="5400000">
              <a:off x="3268800" y="2778480"/>
              <a:ext cx="197640" cy="2335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56" name="_s1031"/>
            <p:cNvSpPr/>
            <p:nvPr/>
          </p:nvSpPr>
          <p:spPr>
            <a:xfrm>
              <a:off x="2585520" y="2540160"/>
              <a:ext cx="3898080" cy="130752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8480" rIns="78480" tIns="39240" bIns="39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Arial"/>
                </a:rPr>
                <a:t>Where does your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Arial"/>
                </a:rPr>
                <a:t>story take place?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_s1032"/>
            <p:cNvSpPr/>
            <p:nvPr/>
          </p:nvSpPr>
          <p:spPr>
            <a:xfrm>
              <a:off x="1174320" y="4044960"/>
              <a:ext cx="2049120" cy="89856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8480" rIns="78480" tIns="39240" bIns="39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What time of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day is it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_s1033"/>
            <p:cNvSpPr/>
            <p:nvPr/>
          </p:nvSpPr>
          <p:spPr>
            <a:xfrm>
              <a:off x="3511440" y="4044960"/>
              <a:ext cx="2049120" cy="89856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8480" rIns="78480" tIns="39240" bIns="39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What is the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weather like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_s1034"/>
            <p:cNvSpPr/>
            <p:nvPr/>
          </p:nvSpPr>
          <p:spPr>
            <a:xfrm>
              <a:off x="5848560" y="4044960"/>
              <a:ext cx="2049120" cy="89856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8480" rIns="78480" tIns="39240" bIns="39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Is it inside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Or outside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push dir="r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0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Arial"/>
              </a:rPr>
              <a:t>Manipulate</a:t>
            </a:r>
            <a:br>
              <a:rPr sz="4000"/>
            </a:br>
            <a:r>
              <a:rPr b="0" lang="en-US" sz="4000" spc="-1" strike="noStrike">
                <a:solidFill>
                  <a:srgbClr val="ffff66"/>
                </a:solidFill>
                <a:latin typeface="Arial"/>
              </a:rPr>
              <a:t>the reader with the setting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6" descr=""/>
          <p:cNvPicPr/>
          <p:nvPr/>
        </p:nvPicPr>
        <p:blipFill>
          <a:blip r:embed="rId1"/>
          <a:stretch/>
        </p:blipFill>
        <p:spPr>
          <a:xfrm>
            <a:off x="6516720" y="1557360"/>
            <a:ext cx="1368360" cy="13143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8" descr=""/>
          <p:cNvPicPr/>
          <p:nvPr/>
        </p:nvPicPr>
        <p:blipFill>
          <a:blip r:embed="rId2"/>
          <a:stretch/>
        </p:blipFill>
        <p:spPr>
          <a:xfrm>
            <a:off x="755640" y="1557360"/>
            <a:ext cx="1441440" cy="1249200"/>
          </a:xfrm>
          <a:prstGeom prst="rect">
            <a:avLst/>
          </a:prstGeom>
          <a:ln w="0">
            <a:noFill/>
          </a:ln>
        </p:spPr>
      </p:pic>
      <p:sp>
        <p:nvSpPr>
          <p:cNvPr id="64" name="Text Box 5"/>
          <p:cNvSpPr/>
          <p:nvPr/>
        </p:nvSpPr>
        <p:spPr>
          <a:xfrm>
            <a:off x="684360" y="3429000"/>
            <a:ext cx="8208720" cy="45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place as well as the weather, time of day and season, to create a setting. After all, a walk along a lane on a summery afternoon creates one atmosphere but the same lane on a dark wintry night would feel very differ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10" descr=""/>
          <p:cNvPicPr/>
          <p:nvPr/>
        </p:nvPicPr>
        <p:blipFill>
          <a:blip r:embed="rId3"/>
          <a:stretch/>
        </p:blipFill>
        <p:spPr>
          <a:xfrm>
            <a:off x="2843280" y="1700280"/>
            <a:ext cx="3166920" cy="96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Use detail to bring the setting alive - base this on sense impress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Comic Sans MS"/>
              </a:rPr>
              <a:t>What can be seen, heard, smelled, touched and tast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If the reader is to enter your world, s/he needs to be able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see 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ear 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ouch 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aste 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smell 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9" descr=""/>
          <p:cNvPicPr/>
          <p:nvPr/>
        </p:nvPicPr>
        <p:blipFill>
          <a:blip r:embed="rId1"/>
          <a:stretch/>
        </p:blipFill>
        <p:spPr>
          <a:xfrm>
            <a:off x="7308720" y="1773360"/>
            <a:ext cx="1131840" cy="14684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1" descr=""/>
          <p:cNvPicPr/>
          <p:nvPr/>
        </p:nvPicPr>
        <p:blipFill>
          <a:blip r:embed="rId2"/>
          <a:stretch/>
        </p:blipFill>
        <p:spPr>
          <a:xfrm>
            <a:off x="4643280" y="2060640"/>
            <a:ext cx="2186280" cy="8683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3" descr=""/>
          <p:cNvPicPr/>
          <p:nvPr/>
        </p:nvPicPr>
        <p:blipFill>
          <a:blip r:embed="rId3"/>
          <a:stretch/>
        </p:blipFill>
        <p:spPr>
          <a:xfrm>
            <a:off x="5580000" y="3213000"/>
            <a:ext cx="1935360" cy="19335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4" descr=""/>
          <p:cNvPicPr/>
          <p:nvPr/>
        </p:nvPicPr>
        <p:blipFill>
          <a:blip r:embed="rId4"/>
          <a:stretch/>
        </p:blipFill>
        <p:spPr>
          <a:xfrm>
            <a:off x="3995640" y="4797360"/>
            <a:ext cx="1944720" cy="14572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5" descr=""/>
          <p:cNvPicPr/>
          <p:nvPr/>
        </p:nvPicPr>
        <p:blipFill>
          <a:blip r:embed="rId5"/>
          <a:stretch/>
        </p:blipFill>
        <p:spPr>
          <a:xfrm>
            <a:off x="7088040" y="4869000"/>
            <a:ext cx="1805040" cy="16030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8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8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8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8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1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3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5" nodeType="afterEffect" fill="hold" presetClass="path" presetID="3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4 -0.00533 0.01 -0.008 0.015 -0.008 C 0.022 -0.008 0.029 -0.004 0.033 0.00267 C 0.05 0.02933 0.063 0.088 0.063 0.15733 L 0.063 0.15867 L 0.063 0.16 C 0.063 0.22933 0.05 0.28933 0.033 0.316 C 0.029 0.32133 0.022 0.32533 0.015 0.32533 C 0.01 0.32533 0.004 0.32267 0 0.31733 C -0.004 0.312 -0.006 0.30533 -0.006 0.29733 C -0.006 0.288 -0.003 0.28 0.002 0.27467 C 0.022 0.25067 0.066 0.23333 0.118 0.23333 L 0.119 0.23333 L 0.12 0.23333 C 0.172 0.23333 0.217 0.25067 0.237 0.27467 C 0.241 0.28 0.244 0.288 0.244 0.29733 C 0.244 0.30533 0.242 0.312 0.238 0.31733 C 0.234 0.32267 0.229 0.32533 0.223 0.32533 C 0.216 0.32533 0.21 0.32133 0.206 0.316 C 0.188 0.28933 0.175 0.22933 0.175 0.16 L 0.175 0.15867 L 0.175 0.15733 C 0.175 0.088 0.188 0.02933 0.206 0.00133 C 0.21 -0.004 0.216 -0.008 0.223 -0.008 C 0.229 -0.008 0.234 -0.00533 0.238 0 C 0.242 0.00533 0.244 0.01333 0.244 0.02 C 0.244 0.02933 0.241 0.03733 0.237 0.044 C 0.217 0.06667 0.172 0.084 0.12 0.084 C 0.12 0.084 0.12 0.084 0.119 0.084 L 0.118 0.084 C 0.066 0.084 0.022 0.06667 0.002 0.044 C -0.003 0.03733 -0.006 0.02933 -0.006 0.02 C -0.006 0.01333 -0.004 0.00533 0 0 Z">
                                      <p:cBhvr>
                                        <p:cTn id="106" dur="2000" fill="hold"/>
                                        <p:tgtEl>
                                          <p:spTgt spid="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08" nodeType="afterEffect" fill="hold" presetClass="emph" presetID="6" repeatCount="1000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9" dur="2000" fill="hold"/>
                                        <p:tgtEl>
                                          <p:spTgt spid="7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11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Arial"/>
              </a:rPr>
              <a:t>Base settings on places that you know - plus some invented detail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ink of places where you have be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lose your eyes and look at all the details around you.  What can you se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ow use your imagination to change the place.  Add some interesting detai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66"/>
                </a:solidFill>
                <a:latin typeface="Arial"/>
              </a:rPr>
              <a:t>Do you want details to make your setting see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66"/>
                </a:solidFill>
                <a:latin typeface="Arial"/>
              </a:rPr>
              <a:t>dangerou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66"/>
                </a:solidFill>
                <a:latin typeface="Arial"/>
              </a:rPr>
              <a:t>frighten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66"/>
                </a:solidFill>
                <a:latin typeface="Arial"/>
              </a:rPr>
              <a:t>fu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66"/>
                </a:solidFill>
                <a:latin typeface="Arial"/>
              </a:rPr>
              <a:t>saf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66"/>
                </a:solidFill>
                <a:latin typeface="Arial"/>
              </a:rPr>
              <a:t>peacefu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66"/>
                </a:solidFill>
                <a:latin typeface="Arial"/>
              </a:rPr>
              <a:t>strange/imaginar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0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8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8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8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8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Arial"/>
              </a:rPr>
              <a:t>Use the setting to create atmosphe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6" descr=""/>
          <p:cNvPicPr/>
          <p:nvPr/>
        </p:nvPicPr>
        <p:blipFill>
          <a:blip r:embed="rId1"/>
          <a:stretch/>
        </p:blipFill>
        <p:spPr>
          <a:xfrm>
            <a:off x="1116000" y="3860640"/>
            <a:ext cx="3527280" cy="218628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instance, you might use a frightening place such as an empty house - or you can take a very ordinary place and make it seem scary by making it seem unusual, dark and col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8" descr=""/>
          <p:cNvPicPr/>
          <p:nvPr/>
        </p:nvPicPr>
        <p:blipFill>
          <a:blip r:embed="rId2"/>
          <a:stretch/>
        </p:blipFill>
        <p:spPr>
          <a:xfrm>
            <a:off x="539640" y="1484280"/>
            <a:ext cx="1997280" cy="21877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0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8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8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8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8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Boulder"/>
              </a:rPr>
              <a:t>Remember: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ctr">
              <a:lnSpc>
                <a:spcPct val="80000"/>
              </a:lnSpc>
              <a:spcBef>
                <a:spcPts val="1100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Comic Sans MS"/>
              </a:rPr>
              <a:t>Do not get bogged down in too much description or you will lose the pace of the narrativ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6" descr=""/>
          <p:cNvPicPr/>
          <p:nvPr/>
        </p:nvPicPr>
        <p:blipFill>
          <a:blip r:embed="rId1"/>
          <a:stretch/>
        </p:blipFill>
        <p:spPr>
          <a:xfrm>
            <a:off x="5254560" y="2949480"/>
            <a:ext cx="2824200" cy="18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21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3" nodeType="afterEffect" fill="hold" presetClass="path" presetID="34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0 0 C 0.004 -0.00533 0.01 -0.008 0.015 -0.008 C 0.022 -0.008 0.029 -0.004 0.033 0.00267 C 0.05 0.02933 0.063 0.088 0.063 0.15733 L 0.063 0.15867 L 0.063 0.16 C 0.063 0.22933 0.05 0.28933 0.033 0.316 C 0.029 0.32133 0.022 0.32533 0.015 0.32533 C 0.01 0.32533 0.004 0.32267 0 0.31733 C -0.004 0.312 -0.006 0.30533 -0.006 0.29733 C -0.006 0.288 -0.003 0.28 0.002 0.27467 C 0.022 0.25067 0.066 0.23333 0.118 0.23333 L 0.119 0.23333 L 0.12 0.23333 C 0.172 0.23333 0.217 0.25067 0.237 0.27467 C 0.241 0.28 0.244 0.288 0.244 0.29733 C 0.244 0.30533 0.242 0.312 0.238 0.31733 C 0.234 0.32267 0.229 0.32533 0.223 0.32533 C 0.216 0.32533 0.21 0.32133 0.206 0.316 C 0.188 0.28933 0.175 0.22933 0.175 0.16 L 0.175 0.15867 L 0.175 0.15733 C 0.175 0.088 0.188 0.02933 0.206 0.00133 C 0.21 -0.004 0.216 -0.008 0.223 -0.008 C 0.229 -0.008 0.234 -0.00533 0.238 0 C 0.242 0.00533 0.244 0.01333 0.244 0.02 C 0.244 0.02933 0.241 0.03733 0.237 0.044 C 0.217 0.06667 0.172 0.084 0.12 0.084 C 0.12 0.084 0.12 0.084 0.119 0.084 L 0.118 0.084 C 0.066 0.084 0.022 0.06667 0.002 0.044 C -0.003 0.03733 -0.006 0.02933 -0.006 0.02 C -0.006 0.01333 -0.004 0.00533 0 0 Z">
                                      <p:cBhvr>
                                        <p:cTn id="224" dur="1000" fill="hold"/>
                                        <p:tgtEl>
                                          <p:spTgt spid="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08T15:51:09Z</dcterms:created>
  <dc:creator>debbie jones</dc:creator>
  <dc:description/>
  <dc:language>en-US</dc:language>
  <cp:lastModifiedBy>Angie McCall</cp:lastModifiedBy>
  <dcterms:modified xsi:type="dcterms:W3CDTF">2011-09-29T19:59:33Z</dcterms:modified>
  <cp:revision>22</cp:revision>
  <dc:subject/>
  <dc:title>Slide 1</dc:title>
</cp:coreProperties>
</file>